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7AE-7356-43C2-9C23-6B19255F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CB2-4BB5-431A-B8E5-218716B3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348-6F8A-4F42-9F44-3DB2770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B86-B49B-4023-B282-5260E8E7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4498-FFFB-46BD-AED3-984C113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E20-46E0-42DD-87B0-C453474B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90E-DCAD-4268-8F02-3DFD302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B09-6E08-4DD4-B21D-AA4259E1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EEFF-7653-4749-B974-1C810E5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1D27-2607-49C0-AF15-CAA0266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9C6-983D-4E06-8E97-4DFCDEF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BCE-165B-4BA3-AD25-5AA7775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1B9A-FE77-40FA-A3DA-893582A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41F-6DFB-4BB0-AFAA-49AF293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4A54-5E3D-42F7-B65A-6642795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3CD-DAD4-4818-B23E-2669B072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148-806D-4C38-99BC-95A5D03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B2C6-CA05-48A4-84BB-034D6B62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992B-C05B-4DE8-BD1D-9B20B052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C9E7-D387-4070-BD23-AE8D0860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D3CF-5535-4F30-8F91-8C6A1656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D436-2C0F-427A-A25F-2BDCED64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EE8-02AB-4B4F-A727-AD667CF2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0942-210F-45AA-AE5D-2C186DE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5607-700D-419A-83D8-B6A1FD79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23D0-0224-4BCC-ABA2-9377590F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BC35-F8D7-497A-B567-FA2F812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A7E3-B0FF-4D64-ACF4-D85A1CA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4A0C-1B19-42F6-B298-32D31E90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7C18-8EC2-4D98-ABF8-C4EF6C21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3B45-009F-4717-82AA-703C384E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7092-CDEA-4C9C-88E8-54DF48C6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79FD-3683-49C5-8C51-4426E41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749-5C05-4950-B6CA-00211DB8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EC10-46DE-4012-8EDE-6448E694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B068-3AE2-4E56-8993-27EACFC3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ECCB3-741F-473E-A99F-2889961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4140-CC9B-4A0B-A768-450AE65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A506-0C47-4135-9813-1088FEE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A42C-CDB1-49F2-8892-3B35C12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F491-E00A-40EB-A14E-B55B55B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FC20-C2CF-44FC-8796-4D733881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F5E8-0FED-42DB-8493-AB8A73CB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144-A827-4102-A8DF-0016A9A9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8B9-E4D1-4B03-9EAD-432193E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F87-7A3B-4844-B272-2C0D403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E1F-FCDB-4563-9FE0-85B74D09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939-A819-46B8-9595-E118AEF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F4F-6A6C-434E-8CEA-40B40539CA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7745-ADEF-4C2D-B92D-D34AB17328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CC5-C5FF-424E-9A12-8ECEFF17BB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E58-93B4-4909-A175-CBA8E2C7B7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962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amantha Nielse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iod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56560" cy="515160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Forward or Next 2"/>
          <p:cNvSpPr/>
          <p:nvPr/>
        </p:nvSpPr>
        <p:spPr>
          <a:xfrm>
            <a:off x="7086600" y="57913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840" y="298440"/>
            <a:ext cx="8577360" cy="3548160"/>
          </a:xfrm>
          <a:prstGeom prst="rect">
            <a:avLst/>
          </a:prstGeom>
          <a:ln w="0">
            <a:noFill/>
          </a:ln>
        </p:spPr>
      </p:pic>
      <p:sp>
        <p:nvSpPr>
          <p:cNvPr id="222" name="Diamond 2"/>
          <p:cNvSpPr/>
          <p:nvPr/>
        </p:nvSpPr>
        <p:spPr>
          <a:xfrm>
            <a:off x="1752480" y="3962520"/>
            <a:ext cx="2057400" cy="2133360"/>
          </a:xfrm>
          <a:prstGeom prst="diamond">
            <a:avLst/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iamond 3"/>
          <p:cNvSpPr/>
          <p:nvPr/>
        </p:nvSpPr>
        <p:spPr>
          <a:xfrm>
            <a:off x="5562720" y="3962520"/>
            <a:ext cx="1981080" cy="2133360"/>
          </a:xfrm>
          <a:prstGeom prst="diamond">
            <a:avLst/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894880" cy="5761080"/>
          </a:xfrm>
          <a:prstGeom prst="rect">
            <a:avLst/>
          </a:prstGeom>
          <a:ln w="0">
            <a:noFill/>
          </a:ln>
        </p:spPr>
      </p:pic>
      <p:sp>
        <p:nvSpPr>
          <p:cNvPr id="225" name="Action Button: Forward or Next 2"/>
          <p:cNvSpPr/>
          <p:nvPr/>
        </p:nvSpPr>
        <p:spPr>
          <a:xfrm>
            <a:off x="7543800" y="5791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3794"/>
                </a:moveTo>
                <a:lnTo>
                  <a:pt x="19970" y="10800"/>
                </a:lnTo>
                <a:lnTo>
                  <a:pt x="5957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20200" cy="4919760"/>
          </a:xfrm>
          <a:prstGeom prst="rect">
            <a:avLst/>
          </a:prstGeom>
          <a:ln w="0">
            <a:noFill/>
          </a:ln>
        </p:spPr>
      </p:pic>
      <p:sp>
        <p:nvSpPr>
          <p:cNvPr id="227" name="Action Button: Forward or Next 2"/>
          <p:cNvSpPr/>
          <p:nvPr/>
        </p:nvSpPr>
        <p:spPr>
          <a:xfrm>
            <a:off x="7391520" y="579132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0" y="298440"/>
            <a:ext cx="8620200" cy="496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15SamanthaN\Local Settings\Temporary Internet Files\Content.IE5\586XCZSU\MC900105220[1].wmf"/>
          <p:cNvPicPr/>
          <p:nvPr/>
        </p:nvPicPr>
        <p:blipFill>
          <a:blip r:embed="rId2"/>
          <a:stretch/>
        </p:blipFill>
        <p:spPr>
          <a:xfrm>
            <a:off x="5181480" y="4572000"/>
            <a:ext cx="27432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36360" y="969840"/>
            <a:ext cx="8583840" cy="2237040"/>
          </a:xfrm>
          <a:prstGeom prst="rect">
            <a:avLst/>
          </a:prstGeom>
          <a:ln w="0">
            <a:noFill/>
          </a:ln>
        </p:spPr>
      </p:pic>
      <p:sp>
        <p:nvSpPr>
          <p:cNvPr id="198" name="Rounded Rectangle 2">
            <a:hlinkClick r:id="rId2" action="ppaction://hlinksldjump"/>
          </p:cNvPr>
          <p:cNvSpPr/>
          <p:nvPr/>
        </p:nvSpPr>
        <p:spPr>
          <a:xfrm>
            <a:off x="1219320" y="350532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nstantia"/>
              </a:rPr>
              <a:t>All my friend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3">
            <a:hlinkClick r:id="rId3" action="ppaction://hlinksldjump"/>
          </p:cNvPr>
          <p:cNvSpPr/>
          <p:nvPr/>
        </p:nvSpPr>
        <p:spPr>
          <a:xfrm>
            <a:off x="5181480" y="350532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y parents and no one else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32800" cy="5529240"/>
          </a:xfrm>
          <a:prstGeom prst="rect">
            <a:avLst/>
          </a:prstGeom>
          <a:ln w="0">
            <a:noFill/>
          </a:ln>
        </p:spPr>
      </p:pic>
      <p:sp>
        <p:nvSpPr>
          <p:cNvPr id="201" name="Action Button: Forward or Next 2">
            <a:hlinkClick r:id="rId2" action="ppaction://hlinksldjump"/>
          </p:cNvPr>
          <p:cNvSpPr/>
          <p:nvPr/>
        </p:nvSpPr>
        <p:spPr>
          <a:xfrm>
            <a:off x="708660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21051" y="10800"/>
                </a:lnTo>
                <a:lnTo>
                  <a:pt x="7038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:\Documents and Settings\15SamanthaN\Local Settings\Temporary Internet Files\Content.IE5\4JBEEXS7\MP900390550[1].jpg"/>
          <p:cNvPicPr/>
          <p:nvPr/>
        </p:nvPicPr>
        <p:blipFill>
          <a:blip r:embed="rId3"/>
          <a:stretch/>
        </p:blipFill>
        <p:spPr>
          <a:xfrm>
            <a:off x="3276720" y="914400"/>
            <a:ext cx="2030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Incorrect!</a:t>
            </a:r>
            <a:br>
              <a:rPr sz="36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ou should never give your password to anyone, even your friends. The only person who should know your passwords are you, and sometimes your parents. Your passwords are YOUR busin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Action Button: Forward or Next 2">
            <a:hlinkClick r:id="" action="ppaction://hlinkshowjump?jump=nextslide"/>
          </p:cNvPr>
          <p:cNvSpPr/>
          <p:nvPr/>
        </p:nvSpPr>
        <p:spPr>
          <a:xfrm>
            <a:off x="731520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21051" y="10800"/>
                </a:lnTo>
                <a:lnTo>
                  <a:pt x="7038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76040" y="1109520"/>
            <a:ext cx="8723520" cy="316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>
            <a:hlinkClick r:id="rId2" action="ppaction://hlinksldjump"/>
          </p:cNvPr>
          <p:cNvSpPr/>
          <p:nvPr/>
        </p:nvSpPr>
        <p:spPr>
          <a:xfrm>
            <a:off x="1066680" y="3733920"/>
            <a:ext cx="2590920" cy="182880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ive them your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715000" y="3733920"/>
            <a:ext cx="2590920" cy="182880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ust delete the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697960" cy="4919760"/>
          </a:xfrm>
          <a:prstGeom prst="rect">
            <a:avLst/>
          </a:prstGeom>
          <a:ln w="0">
            <a:noFill/>
          </a:ln>
        </p:spPr>
      </p:pic>
      <p:sp>
        <p:nvSpPr>
          <p:cNvPr id="210" name="Action Button: Forward or Next 2"/>
          <p:cNvSpPr/>
          <p:nvPr/>
        </p:nvSpPr>
        <p:spPr>
          <a:xfrm>
            <a:off x="7162920" y="57150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\Documents and Settings\15SamanthaN\Local Settings\Temporary Internet Files\Content.IE5\MKWC8GUI\MM900282845[1].gif"/>
          <p:cNvPicPr/>
          <p:nvPr/>
        </p:nvPicPr>
        <p:blipFill>
          <a:blip r:embed="rId2"/>
          <a:stretch/>
        </p:blipFill>
        <p:spPr>
          <a:xfrm rot="20946000">
            <a:off x="6324120" y="990360"/>
            <a:ext cx="2179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881920" cy="5834160"/>
          </a:xfrm>
          <a:prstGeom prst="rect">
            <a:avLst/>
          </a:prstGeom>
          <a:ln w="0">
            <a:noFill/>
          </a:ln>
        </p:spPr>
      </p:pic>
      <p:sp>
        <p:nvSpPr>
          <p:cNvPr id="213" name="Action Button: Forward or Next 2">
            <a:hlinkClick r:id="" action="ppaction://hlinkshowjump?jump=nextslide"/>
          </p:cNvPr>
          <p:cNvSpPr/>
          <p:nvPr/>
        </p:nvSpPr>
        <p:spPr>
          <a:xfrm>
            <a:off x="70866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73080" y="268200"/>
            <a:ext cx="8620200" cy="3700440"/>
          </a:xfrm>
          <a:prstGeom prst="rect">
            <a:avLst/>
          </a:prstGeom>
          <a:ln w="0">
            <a:noFill/>
          </a:ln>
        </p:spPr>
      </p:pic>
      <p:sp>
        <p:nvSpPr>
          <p:cNvPr id="215" name="5-Point Star 2"/>
          <p:cNvSpPr/>
          <p:nvPr/>
        </p:nvSpPr>
        <p:spPr>
          <a:xfrm>
            <a:off x="990720" y="3505320"/>
            <a:ext cx="2438280" cy="2590560"/>
          </a:xfrm>
          <a:prstGeom prst="pi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-Point Star 3"/>
          <p:cNvSpPr/>
          <p:nvPr/>
        </p:nvSpPr>
        <p:spPr>
          <a:xfrm>
            <a:off x="5486400" y="3581280"/>
            <a:ext cx="2362320" cy="2514600"/>
          </a:xfrm>
          <a:prstGeom prst="pi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925120" cy="4889520"/>
          </a:xfrm>
          <a:prstGeom prst="rect">
            <a:avLst/>
          </a:prstGeom>
          <a:ln w="0">
            <a:noFill/>
          </a:ln>
        </p:spPr>
      </p:pic>
      <p:sp>
        <p:nvSpPr>
          <p:cNvPr id="218" name="Action Button: Forward or Next 2"/>
          <p:cNvSpPr/>
          <p:nvPr/>
        </p:nvSpPr>
        <p:spPr>
          <a:xfrm>
            <a:off x="723888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3794"/>
                </a:moveTo>
                <a:lnTo>
                  <a:pt x="18785" y="10800"/>
                </a:lnTo>
                <a:lnTo>
                  <a:pt x="4772" y="17806"/>
                </a:lnTo>
                <a:close/>
              </a:path>
            </a:pathLst>
          </a:cu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8:48:26Z</dcterms:created>
  <dc:creator>HSD</dc:creator>
  <dc:description/>
  <dc:language>en-US</dc:language>
  <cp:lastModifiedBy>HSD</cp:lastModifiedBy>
  <dcterms:modified xsi:type="dcterms:W3CDTF">2010-05-19T17:48:14Z</dcterms:modified>
  <cp:revision>14</cp:revision>
  <dc:subject/>
  <dc:title>Internet Safety Quiz</dc:title>
</cp:coreProperties>
</file>